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149F0-0A23-42B5-BBDD-3C1D77006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77A86-6B9F-46A5-8B8E-9CF7BC998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2120B-0666-40CB-BF89-604D4AE9A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F7D02-FF75-42F6-A5AD-83E77D2E4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71CD5-3586-4765-99ED-EDA21E834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C5E1B-955F-4E4F-AC41-418D0675F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30E65-D23D-471F-9C84-A4D87CE72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EF490-5D26-4F9B-8C69-A6652DE59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1B12B-48FD-45FD-AE05-8B2DF8F1A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63B97-F481-44B7-A351-41EE872B3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C5A7B-FEFE-4112-B3B5-89F0C1AB5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77DB1-8FF2-454C-863B-B9D4F6108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3B4D9-13E2-49A5-8A1A-8C0C04A15B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This is a ClamAV test file with embedded clam.ex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95280" y="5300640"/>
            <a:ext cx="927000" cy="8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6:23:50Z</dcterms:created>
  <dc:creator>    </dc:creator>
  <dc:description/>
  <dc:language>en-US</dc:language>
  <cp:lastModifiedBy>    </cp:lastModifiedBy>
  <dcterms:modified xsi:type="dcterms:W3CDTF">2008-06-03T16:26:29Z</dcterms:modified>
  <cp:revision>1</cp:revision>
  <dc:subject/>
  <dc:title>This is a ClamAV test file with embedded clam.exe</dc:title>
</cp:coreProperties>
</file>